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9DA-D5DF-43C4-A64E-00550AC0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60A-5DA5-4A0F-BE24-57119D4F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E39-6259-47CD-8C75-545243EB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F46B-D57E-4811-9B0B-4F44DAB4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39DB-CAA4-4028-A985-FDBB8F78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6600-714F-4C6A-AD1C-A2C36AD5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0E6E-44A7-41B9-8EF4-0081E67A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4C5E-E23E-4FF9-80CA-00ACD261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EA9C-5801-4A3F-837F-71788FEC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2AC8-A1B4-4823-805C-A19B4011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BCBA-E8E9-4B88-BAA9-D0A7F97B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63B-3865-4A32-A8F5-774EB8C9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FBCC-8181-415F-AF48-E81EBD4B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C02F-DACD-46F8-95E7-2FBAF2F8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6F8E-3478-4EDB-95AE-634AFE1F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78AD-61A7-4678-A245-4D258B27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F3C7-9477-41D6-B165-0275132F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24B-D2D9-49B4-B33B-AF832203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9BD-FFA0-4B38-B554-CEB0BDE3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597-EB21-4B2A-9B11-9046DBD0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70F-B20D-4E95-A109-BD64A59A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E07-2C02-43F8-809D-92F7FE14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7E4-D8CB-4A97-8034-9A50DFF3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26E-321D-4BC5-99CA-3D241C18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DCD6-FB12-471C-839D-584E5903E5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0488-4BE0-49C2-915F-623E626F40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animalpix.ru/wallpapers/276.html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69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Особенности подбора певчих и декоративных птиц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иноземного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роисхождения в уголках природы разных возрастных групп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Попугаи фото"/>
          <p:cNvPicPr/>
          <p:nvPr/>
        </p:nvPicPr>
        <p:blipFill>
          <a:blip r:embed="rId1"/>
          <a:stretch/>
        </p:blipFill>
        <p:spPr>
          <a:xfrm>
            <a:off x="3048120" y="4724280"/>
            <a:ext cx="350496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попугаи - пара попугаев сидят на жердочке, для мобильного телефона"/>
          <p:cNvPicPr/>
          <p:nvPr/>
        </p:nvPicPr>
        <p:blipFill>
          <a:blip r:embed="rId2"/>
          <a:stretch/>
        </p:blipFill>
        <p:spPr>
          <a:xfrm>
            <a:off x="990720" y="4724280"/>
            <a:ext cx="176184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Обои для рабочего стола - Ар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4724280"/>
            <a:ext cx="2057400" cy="213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57800" y="3808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а студентка -Вахнина Ю., 636 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Младшая групп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Птица в клетке как временный объе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281952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00400" y="6172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крепить название птицы, знание характерных признаков внешнего вида (отметить, что у птицы есть перья, крылья, она летает; клюёт зёрнышки и т.д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редняя груп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6483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57800" y="5029200"/>
            <a:ext cx="251460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71600" y="502920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69080" y="46483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133720"/>
            <a:ext cx="7925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очнить и дополнить знания детей о внешнем виде и повадках птиц. Учить более точно описывать птиц (у неё маленькая голова; маленькие чёрные круглые глаза; тонкие ножки, на них пальцы и т.д.). Расширить знания детей о повадках птички: она купается в воде, чистит пёрышки, поёт. Уточнить и дополнить знания о птичках, её корме. Укреплять интерес к птицам и уходу за ней. Закрепить знания слов: кормушка, купалка, поилк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аршая груп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48560" y="6248160"/>
            <a:ext cx="1458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72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724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ис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5880" y="52578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657600" y="525780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066680" y="5257800"/>
            <a:ext cx="1981440" cy="1295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18480" y="47293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0574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точнить знания детей о повадках птиц. Продолжать воспитывать бережное отношение к ним и желание заботиться о хорошем их состоянии. Разнообразить работу дежурных по уходу за птицами, живущих в уголке при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одготовительная группа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57320" y="4724280"/>
            <a:ext cx="183816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14400" y="59436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лнистый попугайч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3716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59436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5943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ис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72200" y="4724280"/>
            <a:ext cx="1981080" cy="1219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190476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781680" y="2362320"/>
            <a:ext cx="2057400" cy="1447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8168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828800"/>
            <a:ext cx="5638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очнить и расширить знания детей о птицах, живущих в уголке природы. Познакомить с новым жильцом уголка – волнистым попугайчиком. Показать своеобразие внешнего вида и повадок: у него загнутый клюв с восковицей, длинный свисающий хвост, на ногах 2 пальца, направленных вперёд, 1 – назад, окраска пёстрая, рисунок в виде волн, попугайчик летает и лазает. Учить сравнивать попугайчика с другими птицами, отмечая различия и сх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D312</cp:lastModifiedBy>
  <dcterms:modified xsi:type="dcterms:W3CDTF">2010-05-17T06:46:1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